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5EE3-C580-48E7-87BD-CFD2D832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5EA1-B3D3-470C-BCED-6A740F12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C9B-D0D0-4DCC-8993-E725519B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E1E1-3956-41F5-8ABB-0FEBB822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17B-CA20-4ED9-A52A-D0F26509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2957-6BFC-47DB-B204-604BA1F1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D764-1604-4663-8BF2-24D837A5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CD0-58B1-4F21-80B0-29C548FD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2178-7DFD-4BBE-8D16-785066E7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A519-5F62-44E1-A66D-5B9515BD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A87-342F-4DF6-8166-8007C15C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FE8-DEA4-4325-BCBC-6283EC2C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E138-5FB9-41CD-AFE1-82ECE9340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40384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 quelle couleurs sont les croissants de lu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48006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en de triangles est-ce qu’il y a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2895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en de losanges est-ce qu’il y 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3880" y="1676520"/>
            <a:ext cx="5943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2720" y="3276720"/>
            <a:ext cx="81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 quelle couleurs sont les zigzag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22860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bien d’ovales est-ce qu’il y 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19051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bien d’étoiles est-ce qu’il y 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438280"/>
            <a:ext cx="71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2590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en de car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és est-ce qu’il y 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198108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 quelle couleur sont les boucle d’oreilles de la rei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19810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 quelle couleur est le maillot de bain de l’o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1447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bien de rectangles est-ce qu’il y 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6:58:08Z</dcterms:created>
  <dc:creator>CVJH-LAB</dc:creator>
  <dc:description/>
  <dc:language>en-US</dc:language>
  <cp:lastModifiedBy>nield411</cp:lastModifiedBy>
  <dcterms:modified xsi:type="dcterms:W3CDTF">2008-02-26T04:40:11Z</dcterms:modified>
  <cp:revision>9</cp:revision>
  <dc:subject/>
  <dc:title>Slide 1</dc:title>
</cp:coreProperties>
</file>